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D52-D228-4329-91AB-37CC17A1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7D5-82DA-4185-B7E7-D5D86DD8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553-125F-40F3-8179-13A9EEEC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D43-8235-4C3C-838A-B41FDB01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2DD-D9D4-4BA2-B2F5-81A3279C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F9B-7C8D-4A7D-8A29-EBB46D73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49F-C273-4E1E-ADA9-2EFAF740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73D-6FEA-4504-8362-68D1C69B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7D1-0386-4AAC-A835-BEDA2A80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BD6-B248-49F5-A704-431BDA08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E3E-FD25-46BE-B497-77F4EE9A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B62-61C5-495E-9B46-2C8FB900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B65F-3E7D-4647-9B69-E8558D0D0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n acceptable practice for companies such as Under Armour to use debt to help achieve their object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rporation usually redeems its bonds at a price equal to that of the carrying amount (book valu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other assets, the cost of a bond investment includes all costs incurred to purchase the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rporation is legally obligated to pay both interest on debt and dividends on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that may be exchanged for other securities, such as common stock,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1132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a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tur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ompany issues bonds, the proceeds received for the bonds depend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4156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rket rate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e amount of the bonds, which is due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est on th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market rate of interest is greater than the contract rate of interest, a bond will s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512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its fac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pre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 undetermined amount since not enough information is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eries of equal cash payments at fixed intervals is called a(n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cash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0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maturity date of bonds, the Bonds Payable accoun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41148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ed for the face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ed for the present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ed for the difference between the face value and present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ited for the present value of the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ethods for amortizing a bond discount ar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41148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ight-line method and complex interest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ight-line method and effective interest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interest method and declining-balance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ining-balance method and straight-line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installment note is issued, an entry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076120"/>
            <a:ext cx="44197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Notes Payable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Interest Expense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Cash and crediting Note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Cash and crediting Account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long-term debt and short-term debt used for different purpo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that provide for only payment of the face value at maturity date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a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tur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-coupon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arrying amount of bonds payable is equal to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5105520" y="2228760"/>
          <a:ext cx="388620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228760"/>
                    <a:ext cx="388620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06120"/>
            <a:ext cx="44956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plus any unamortized discount or less any unamortized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less any unamortized discount or plus any unamortized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plus accrued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amount of the bonds less accrued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2524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nds Payable account is repo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14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as a current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as a current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balance sheet as a long-term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come statement as a long-term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0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1" name="Rectangle 11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4"/>
          <p:cNvSpPr/>
          <p:nvPr/>
        </p:nvSpPr>
        <p:spPr>
          <a:xfrm>
            <a:off x="457200" y="1085760"/>
            <a:ext cx="8305920" cy="47300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irst day of the fiscal year, a company issues a $1,000,000, 6%, five-year bond that pays semiannual interest of $30,000 ($1,000,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½), receiving cash of $936,4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OR FAL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the issuance of the bonds includes a debit to Discount on Bonds Payable for $63,580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22096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irst day of the fiscal year, a company issues a $1,000,000, 6%, five-year bond that pays semiannual interest of $30,000, receiving cash of $936,420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urnal entry to record the issuance of the bonds includes a debit to Discount on Bonds Payable for $63,580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TPChart"/>
          <p:cNvGraphicFramePr/>
          <p:nvPr/>
        </p:nvGraphicFramePr>
        <p:xfrm>
          <a:off x="5334120" y="2666880"/>
          <a:ext cx="3657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666880"/>
                    <a:ext cx="3657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Group 6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9" name="Rectangle 7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4114800" cy="14479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57200" y="689040"/>
            <a:ext cx="8305920" cy="2648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first day of the fiscal year, a company issues a $1,000,000, 6%, five-year bond that pays semiannual interest of $30,000 ($1,000,0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½), receiving cash of $936,420. How mu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est exp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cognized on the first interest pay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6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457200" y="3581280"/>
          <a:ext cx="8305920" cy="21430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6,3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,3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5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84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Group 9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4" name="Rectangle 10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2514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6,3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6,3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0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1" name="Rectangle 11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14"/>
          <p:cNvSpPr/>
          <p:nvPr/>
        </p:nvSpPr>
        <p:spPr>
          <a:xfrm>
            <a:off x="457200" y="762120"/>
            <a:ext cx="8305920" cy="3267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ny issues a $2,000,000, 12%, five-year bond that pays semiannual interest of $120,000 ($2,000,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2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½), receiving cash of $2,154,4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 bond sell at a discount or a prem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PAnswers"/>
          <p:cNvSpPr/>
          <p:nvPr/>
        </p:nvSpPr>
        <p:spPr>
          <a:xfrm>
            <a:off x="457200" y="4419720"/>
            <a:ext cx="4114800" cy="14475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24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ny issues a $2,000,000, 12%, five-year bond that pays semiannual interest of $120,000 ($2,000,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2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½), receiving cash of $2,154,44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the bond sell at a discount or a prem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TPChart"/>
          <p:cNvGraphicFramePr/>
          <p:nvPr/>
        </p:nvGraphicFramePr>
        <p:xfrm>
          <a:off x="4940280" y="2133720"/>
          <a:ext cx="4199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0280" y="2133720"/>
                    <a:ext cx="4199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9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0" name="Rectangle 10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1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2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4114800" cy="14479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point at which companies such as Under Armour could incur too much deb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only large companies such as Under Armour monitor and manage the debt of the comp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 set time frame for classifying debt as long-term in na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ions finance their operations using debt and equ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bond sells at an amount less than its face value, it will sell at a prem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cept of present value is based on the time value of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dholder claims on the corporation’s assets rank ahead of stockhol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22:36:45Z</dcterms:created>
  <dc:creator> </dc:creator>
  <dc:description/>
  <dc:language>en-US</dc:language>
  <cp:lastModifiedBy>Leslie</cp:lastModifiedBy>
  <dcterms:modified xsi:type="dcterms:W3CDTF">2008-12-30T03:11:22Z</dcterms:modified>
  <cp:revision>41</cp:revision>
  <dc:subject/>
  <dc:title>Is there a uniform acceptable amount for debt for large companies such as Under Armour?</dc:title>
</cp:coreProperties>
</file>